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5BD-D9A7-4F4B-AA1D-DB40EC46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311-12B3-43CC-98FC-A7D4DF0A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1678-B327-4695-BC0D-7DCE22A3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1E0-1E42-4B4F-AF53-50A39002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C2F-4C6F-4192-869A-81C6679D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5844-CAE9-4DBC-A231-DA8B3517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C4D0-4F4C-4394-96D3-61378089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9A8E-573F-48CD-8CD9-74EBE233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B16B-EF89-4155-A6A4-3611C38B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B4B2-A38B-4183-8707-5E3FD6D8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D83-5F94-491D-A3D5-2994DDAC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6E6-7F71-469B-8023-88DC66BD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6584-C484-476C-9ED4-B412674EB9E2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141D-B320-4272-8920-214EEE2F823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google.com/imgres?imgurl=http://www.tk-online.de/rochelexikon/pics/a06465.004-1_big.jpg&amp;imgrefurl=http://www.tk-online.de/rochelexikon/pics/p06465.004-1.html&amp;usg=__G8ftMXOdjvTpKe8iNhPi409EpKM=&amp;h=287&amp;w=400&amp;sz=39&amp;hl=sr&amp;start=47&amp;itbs=1&amp;tbnid=L6b0kQb9DMjQAM:&amp;tbnh=89&amp;tbnw=124&amp;prev=/images%3Fq%3Dcontusio%26start%3D36%26hl%3Dsr%26sa%3DN%26gbv%3D2%26ndsp%3D18%26tbs%3Disch:1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stetoskop.info/pics/0/820/thumbnails/150x150/epiduralni.jpg&amp;imgrefurl=http://www.stetoskop.info/Epiduralni-hematom-820-c39-sickness.htm&amp;usg=__gj6tchsA4U-5Uts3m5zMk62SvIM=&amp;h=135&amp;w=150&amp;sz=8&amp;hl=sr&amp;start=3&amp;itbs=1&amp;tbnid=LS9V_eKJk7sI4M:&amp;tbnh=86&amp;tbnw=96&amp;prev=/images%3Fq%3Depidurani%2Bhematom%26hl%3Dsr%26sa%3DG%26gbv%3D2%26tbs%3Disch:1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nemlib.cz/web/obrazky/1_33_12_57_37_ostatni/epiduralni_hematom.jpg&amp;imgrefurl=http://www.nemlib.cz/web/index.php%3Fmenu%3D1_33_12_57_37&amp;usg=__s3nn_4bTws5qMT_0dt961SIuT54=&amp;h=200&amp;w=200&amp;sz=52&amp;hl=sr&amp;start=9&amp;itbs=1&amp;tbnid=2rzgkyYap1m6bM:&amp;tbnh=104&amp;tbnw=104&amp;prev=/images%3Fq%3Depidurani%2Bhematom%26hl%3Dsr%26sa%3DG%26gbv%3D2%26tbs%3Disch: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neurohirurgija.in.rs/new_page_3_files/image008.jpg&amp;imgrefurl=http://www.neurohirurgija.in.rs/new_page_3.htm&amp;usg=__fcgQ8jxYzDE-e0r0KLoX_3gKfIk=&amp;h=320&amp;w=320&amp;sz=12&amp;hl=sr&amp;start=1&amp;itbs=1&amp;tbnid=dcR7On7llAnlEM:&amp;tbnh=118&amp;tbnw=118&amp;prev=/images%3Fq%3Dsubdurani%2Bhematom%26hl%3Dsr%26sa%3DG%26gbv%3D2%26tbs%3Disch:1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imaios.com/var/ezwebin_site/storage/images/clinical-cases/exambank/emergency/thoracic-injuries-subcapsular-hemorrhage-of-liver-pelvic-injury/crane/2426860-1-eng-GB/crane_medium.jpg&amp;imgrefurl=http://www.imaios.com/en/Clinical-cases/Exambank/Emergency/Thoracic-Injuries-Subcapsular-hemorrhage-of-liver-Pelvic-injury&amp;usg=__zWoNOxLW8UVbFwH_WF3UpKzrSUA=&amp;h=166&amp;w=200&amp;sz=9&amp;hl=sr&amp;start=55&amp;itbs=1&amp;tbnid=D1BnPh82baMb-M:&amp;tbnh=86&amp;tbnw=104&amp;prev=/images%3Fq%3Dfractura%2Bcranii%26start%3D54%26hl%3Dsr%26sa%3DN%26gbv%3D2%26ndsp%3D18%26tbs%3Disch:1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raniocerebralne povred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ANIOCEREBRAL TRAUMA</a:t>
            </a:r>
            <a:br>
              <a:rPr sz="4000"/>
            </a:b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Svetlana Miletic Drakulic, PhD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71720"/>
            <a:ext cx="6400800" cy="66600"/>
          </a:xfrm>
          <a:prstGeom prst="rect">
            <a:avLst/>
          </a:prstGeom>
          <a:noFill/>
          <a:ln w="0">
            <a:noFill/>
          </a:ln>
        </p:spPr>
        <p:txBody>
          <a:bodyPr tIns="20880" bIns="2088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Calibri"/>
              </a:rPr>
              <a:t>ac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8582-C2D3-4AEE-9B18-5B981246788F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6960-F809-444B-AD30-951C6AB7CD4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motio cerebri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erebral Concus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2560" y="198108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ctional disorder of the brain 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ussion,meaning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versible traumatic paralysis of nervous function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lways immediate (not delayed even by second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s of concussion on brain function may last for a variable time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econds, minutes, hours, or long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ression of reflexes (falling to the ground if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ing), transient arrest of respiration, a brief period of bradycardia,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fall in blood pressure     (vital and vegetative centers)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nesia (memoriz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lysis of limbs, swallowing, brainstem reflexes (pyramidal pathway, KN nucle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5B4D-E3A4-41AD-B8F6-786C36482E98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5702-8487-473C-BBB6-4871D1A2953F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chanism of in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l on the s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dden jerk of the head (jerk bica) - the medullary part of the impact in dens epistrop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low to the head (the direction of the force passes through the brainst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dden change in the momentum of the head; either movement is imparted to the stationary head by a blow or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ement of the head is arrested by a hard, unyielding surfa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two types of blunt (nonpenetrating) head injury are call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celerative and decelerative, respective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31E0-7D41-4579-97E5-B84676F8840D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C751-B431-44D0-A349-E4D0D189F41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8" descr="ANd9GcRKoRW0YPY_aZDau6UTN4NPC0Y5W781x5ZmjBS42Yha5YoargXhug"/>
          <p:cNvPicPr/>
          <p:nvPr/>
        </p:nvPicPr>
        <p:blipFill>
          <a:blip r:embed="rId1"/>
          <a:stretch/>
        </p:blipFill>
        <p:spPr>
          <a:xfrm>
            <a:off x="5616720" y="0"/>
            <a:ext cx="3527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ces cause axons to stretch or t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turbance of consciousness for less than 6 hours = comotio cerebr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the disorder lasts longer than 6 hours, we are talking about diffuse axonal damage (DAO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generation of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rve fibers that had been stretched or torn by the shear stresses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t up during rotational acceleration of the head (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diffuse axonal</a:t>
            </a:r>
            <a:r>
              <a:rPr b="0" i="1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injury)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examina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A0C9-1C9C-4B2D-A6D6-5FBFBF04C802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EF9C-7BDC-4265-BC82-83FEAD2BC54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38080" y="17524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09480" y="2743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9"/>
          <p:cNvCxnSpPr>
            <a:stCxn id="98" idx="0"/>
            <a:endCxn id="98" idx="0"/>
          </p:cNvCxnSpPr>
          <p:nvPr/>
        </p:nvCxnSpPr>
        <p:spPr>
          <a:xfrm>
            <a:off x="609120" y="2742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AutoShape 10"/>
          <p:cNvSpPr/>
          <p:nvPr/>
        </p:nvSpPr>
        <p:spPr>
          <a:xfrm>
            <a:off x="3429000" y="2819520"/>
            <a:ext cx="4856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4876920" y="27432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3352680" y="2278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429000" y="1828800"/>
            <a:ext cx="236700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ss of consciousn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0" y="3089160"/>
            <a:ext cx="327672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rograde amnes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562720" y="3200400"/>
            <a:ext cx="358128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erograde amnes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09480" y="5021280"/>
            <a:ext cx="800100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usea, vomiting, fluctuating blood pressure, tremors, headache, feeling cold, hot, weakness, apat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2895480" y="6248520"/>
            <a:ext cx="46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data from other pers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jury severity according to anterograde amnesia and coma l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89C7-A045-4D1B-852D-7033528ECC90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DB64-931C-4D7B-94B6-62971EDF3AF7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14240" y="2857680"/>
            <a:ext cx="3733920" cy="378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or Injury 75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anterograde amnesia up to 24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Impairment of consciousness for up to 20 min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GSK 13-1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Absence of CT findin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714920" y="2928960"/>
            <a:ext cx="4114800" cy="3416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ious inju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anterograde amnesia over 24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oma for more than 6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GSC less than 1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CT (organic brain damag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use axonal dam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a for over 6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T and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MR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sults were nor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ive axon damage by tearing and stretching (pons, midbrain, c. calosuma, c. inter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sequences are either a vegetative state or a disorder of attention and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CF5D-EF42-4A59-B940-B098364A1654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C00C-9FEE-479A-8103-C13A15ABB61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ain ed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after any inj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oes not correlate with the severity of the inj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usually develops after 24 to 48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ren are especially pr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130F-5EB3-4183-B88B-0D73C42EF502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E877-F31C-4926-8D24-06585C89E8E9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usio cerebr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ontusions </a:t>
            </a:r>
            <a:r>
              <a:rPr b="0" i="1" lang="sr-Latn-RS" sz="4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chanism of inju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Impact of an object on the skull that is at r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ntusion at the point of impac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by the impact of the moving skull on a solid surf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in the place of injury and positive pressure, a smaller contusion focus, on the opposite side, negative pressure, a larger foc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ontre-cou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 of patients who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ain in coma for more than 24 h after a head injury are found to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e intracerebral hematom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se lesions, the most important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contusions of the surface of the brain beneath the point of impact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up lesion) and the more extensive lacerations and contusions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side opposite the site of impact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trecoup lesion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9A30-82FC-49A8-B596-D06C1540401F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6D49-309D-460A-94DA-FF21C91A130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8" descr="ANd9GcQ1pOVaZc9SLDWLCD5RBWNj9HqiE0NotZ1mP0_-9zllcu7ooyyw"/>
          <p:cNvPicPr/>
          <p:nvPr/>
        </p:nvPicPr>
        <p:blipFill>
          <a:blip r:embed="rId1"/>
          <a:stretch/>
        </p:blipFill>
        <p:spPr>
          <a:xfrm>
            <a:off x="6143760" y="1071720"/>
            <a:ext cx="266688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effects of bruises, lacerations, hemorrhages, localized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wellings, white matter necroses, and herniations of tissue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t occur 12 to 72 h or more af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On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T scan of the brain - finding of a contusion scar the contusions appear as edematous regions of cortex and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bcortical white matter admixed with areas of increased density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presenting leaked bloo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urological examination-focal outbur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aired consciousness, bradycardia with hyper and then hypotens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3522-83D0-4684-BB0F-F6049587CC80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38AF-475C-49C2-B2CB-712467CA76CF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brain_injury"/>
          <p:cNvPicPr/>
          <p:nvPr/>
        </p:nvPicPr>
        <p:blipFill>
          <a:blip r:embed="rId2"/>
          <a:stretch/>
        </p:blipFill>
        <p:spPr>
          <a:xfrm>
            <a:off x="1692360" y="1413000"/>
            <a:ext cx="5616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ANIOCEREBRAL TRAU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iologically, they belong to non-progressive neurological disorders caused by a single effect of an etiological factor (mechanical trau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3126-E26A-4131-82CB-065557C0F696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1F94-6A78-4FAB-9AFD-81E3E68FA4D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4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a0646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628640"/>
            <a:ext cx="4537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98108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arachnoid hemorrh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icdural and subdural hemato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acerebral bl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7" descr="1"/>
          <p:cNvPicPr/>
          <p:nvPr/>
        </p:nvPicPr>
        <p:blipFill>
          <a:blip r:embed="rId1"/>
          <a:stretch/>
        </p:blipFill>
        <p:spPr>
          <a:xfrm>
            <a:off x="4284720" y="2421000"/>
            <a:ext cx="396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umatic intracranial ble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ute Epidural Hemorrh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ute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bdural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mato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ronic Subdural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mato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3852-BCE0-473E-AB86-9326F56FD0A6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E62D-FAC1-47D2-BCD4-D474FA6CA9A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ute Epidural Hemorrh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arises with a temporal or parietal fracture and laceration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e middle meningeal art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cture of the temporal and parietal b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atoma grows rapidly, compresses brain tissue (Hutchinson's pupi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ological signs1h – 24h lucid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increase in intracranial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Focal neurological outbrea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AF83-AB08-4FC0-96B8-96B2763041BE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0592-E249-4B64-A12B-90F36411BBE9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pidural hemat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4500360"/>
            <a:ext cx="7772400" cy="15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03ED-F317-4F3F-9D7A-01C05273B9A5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7364-3950-4A4F-B383-9DA6AC42C4F7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iagram 5" descr=""/>
          <p:cNvPicPr/>
          <p:nvPr/>
        </p:nvPicPr>
        <p:blipFill>
          <a:blip r:embed="rId1"/>
          <a:stretch/>
        </p:blipFill>
        <p:spPr>
          <a:xfrm>
            <a:off x="353880" y="208080"/>
            <a:ext cx="6107400" cy="40780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6"/>
          <p:cNvSpPr/>
          <p:nvPr/>
        </p:nvSpPr>
        <p:spPr>
          <a:xfrm>
            <a:off x="3214800" y="2786040"/>
            <a:ext cx="57862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typical example is that of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child who has fallen from a bicycle and was unconscious only momentarily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few hours or a day later headache of increasing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verity develops, with vomiting, drowsiness, confusion, aphasia,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izures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hemiparesis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pulse is often slow (below 60 beats per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nute) and bounding, with a concomitant rise in systolic bloo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sure (Cushing effect). The pupil ma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late on the side of th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matom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CT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can reveals a lens-shaped clot with a smooth inner margin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visualization of a fracture line across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groove of the middle meningeal artery and knowledge of which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de of the head was struck (the clot is usually on that side) are o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id in diagnosis and lateralization of the le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epiduraln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7800" y="-285840"/>
            <a:ext cx="453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934640"/>
            <a:ext cx="32576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the clot is no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oved surgically, comes at the end of a comatose period and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ue to respiratory arr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surgical procedure craniotomy, drainage of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ematoma, and identification and ligation of the bleeding vess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epiduralni_hemat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71960" y="1785960"/>
            <a:ext cx="4896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cute and Chronic Subdur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ematom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nous slow bleeding between dura and arachno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hronic subdural hematoma becomes gradually encys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y fibrous membranes (pseudomembranes) that grow from th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u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acute</a:t>
            </a:r>
            <a:r>
              <a:rPr b="1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subdural hematoma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, there may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 a brief lucid interval between the blow to the head and the adv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 coma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, more often, the patient is comatose from the time 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jury and the coma deepens progressively. Frequently the acute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dural hematoma is combined with epidural hemorrhage, cerebral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usion, or lacer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6E58-AAC8-4004-93CB-0C9649E9E147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C97E-A50E-47EC-863D-4C479B8296D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Content Placeholder 5" descr=""/>
          <p:cNvPicPr/>
          <p:nvPr/>
        </p:nvPicPr>
        <p:blipFill>
          <a:blip r:embed="rId1"/>
          <a:stretch/>
        </p:blipFill>
        <p:spPr>
          <a:xfrm>
            <a:off x="615960" y="993600"/>
            <a:ext cx="7862760" cy="5108760"/>
          </a:xfrm>
          <a:prstGeom prst="rect">
            <a:avLst/>
          </a:prstGeom>
          <a:ln w="0">
            <a:noFill/>
          </a:ln>
        </p:spPr>
      </p:pic>
      <p:sp>
        <p:nvSpPr>
          <p:cNvPr id="1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EE73-D3BB-406C-BB89-355AA8D83AC4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1CAE-1F09-4DF4-9A2E-40B451ED4FF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dural hemato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934640"/>
            <a:ext cx="3471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chronic subdural hematoma becomes gradually encyst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y fibrous membranes (pseudomembranes) that grow from th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ura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y somewhat less than one-half of all subdural hematomas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main solid and nonenlarging and the remainder liquefy and then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large is not know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ggest that the volume of the original clot is a critic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actor: the larger its initial size, the more likely it will be to enlar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n inflammatory reaction, triggered by the breakdown products o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lood elements in the clot, appears to be an additional stimulus f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rowth as well as for neomembrane formation and its vasculariz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5429160" y="1428840"/>
            <a:ext cx="335772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ANIOCEREBRAL TRAU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classified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9A3E-8A37-43B4-AD16-18804F586B71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FDC0-A84B-4ADB-AC50-0A9EA9A4DD1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Diagram 5" descr=""/>
          <p:cNvPicPr/>
          <p:nvPr/>
        </p:nvPicPr>
        <p:blipFill>
          <a:blip r:embed="rId1"/>
          <a:stretch/>
        </p:blipFill>
        <p:spPr>
          <a:xfrm>
            <a:off x="1504800" y="1816200"/>
            <a:ext cx="61390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934640"/>
            <a:ext cx="3471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most cases of acute hematoma,it is sufficient to place burr holes and evacuate the clotbefore deep coma has develop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atment of larger hematomas,particularly after several hours have passed and the blood has clotted,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wide craniotomy to permit control of the blee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removal of the cl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image0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0920" y="1500120"/>
            <a:ext cx="47530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ute Brain Swelling in Child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934640"/>
            <a:ext cx="2971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s condition is seen in the first hours after injury and may prove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apidly fatal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CT scan shows enlargement of both hemisphere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compression of the basal cisterns and ventricle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re is usually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papilledema in the early stages, during which the child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yperventilates, vomits, and shows extensor posturing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assumption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as been that this represents a loss of regulation of cerebral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lood flow and a massive increase in the blood volume ofthe brai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5" descr="chronicky_subduralni_hematom"/>
          <p:cNvPicPr/>
          <p:nvPr/>
        </p:nvPicPr>
        <p:blipFill>
          <a:blip r:embed="rId1"/>
          <a:stretch/>
        </p:blipFill>
        <p:spPr>
          <a:xfrm>
            <a:off x="3429000" y="1643040"/>
            <a:ext cx="5327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umatic brain involvement of hern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apment of parts of the brain in the openings of the dura or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ubfal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hrough hiatus tento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Through the foramen occipitale magn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F81C-DEE8-464A-8539-29A0192F2579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379B-A2F8-4938-A0D4-8ADE001D872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Content Placeholder 5" descr=""/>
          <p:cNvPicPr/>
          <p:nvPr/>
        </p:nvPicPr>
        <p:blipFill>
          <a:blip r:embed="rId1"/>
          <a:stretch/>
        </p:blipFill>
        <p:spPr>
          <a:xfrm>
            <a:off x="646200" y="615960"/>
            <a:ext cx="7851600" cy="2316240"/>
          </a:xfrm>
          <a:prstGeom prst="rect">
            <a:avLst/>
          </a:prstGeom>
          <a:ln w="0">
            <a:noFill/>
          </a:ln>
        </p:spPr>
      </p:pic>
      <p:sp>
        <p:nvSpPr>
          <p:cNvPr id="18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2D5C-A645-47B6-833E-2A9DBCCE702A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5E24-DE38-460D-86E7-8FC7AFF7D2B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Diagram 6" descr=""/>
          <p:cNvPicPr/>
          <p:nvPr/>
        </p:nvPicPr>
        <p:blipFill>
          <a:blip r:embed="rId2"/>
          <a:stretch/>
        </p:blipFill>
        <p:spPr>
          <a:xfrm>
            <a:off x="281160" y="2206800"/>
            <a:ext cx="8442000" cy="3260520"/>
          </a:xfrm>
          <a:prstGeom prst="rect">
            <a:avLst/>
          </a:prstGeom>
          <a:ln w="0">
            <a:noFill/>
          </a:ln>
        </p:spPr>
      </p:pic>
      <p:pic>
        <p:nvPicPr>
          <p:cNvPr id="184" name="Diagram 7" descr=""/>
          <p:cNvPicPr/>
          <p:nvPr/>
        </p:nvPicPr>
        <p:blipFill>
          <a:blip r:embed="rId3"/>
          <a:stretch/>
        </p:blipFill>
        <p:spPr>
          <a:xfrm>
            <a:off x="493560" y="4780080"/>
            <a:ext cx="815688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250px-Brain_herniation_types-2"/>
          <p:cNvPicPr/>
          <p:nvPr/>
        </p:nvPicPr>
        <p:blipFill>
          <a:blip r:embed="rId2"/>
          <a:stretch/>
        </p:blipFill>
        <p:spPr>
          <a:xfrm>
            <a:off x="1619280" y="1268280"/>
            <a:ext cx="5400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120px-Subfalcine-herniation-001"/>
          <p:cNvPicPr/>
          <p:nvPr/>
        </p:nvPicPr>
        <p:blipFill>
          <a:blip r:embed="rId2"/>
          <a:stretch/>
        </p:blipFill>
        <p:spPr>
          <a:xfrm>
            <a:off x="1692360" y="981000"/>
            <a:ext cx="5472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Brain hernia"/>
          <p:cNvPicPr/>
          <p:nvPr/>
        </p:nvPicPr>
        <p:blipFill>
          <a:blip r:embed="rId2"/>
          <a:stretch/>
        </p:blipFill>
        <p:spPr>
          <a:xfrm>
            <a:off x="1547640" y="1341360"/>
            <a:ext cx="626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same time resuscitation, data collection, examination of the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ist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duration of loss of conscious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duration of post-traumatic anterograde amne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ause of inj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present headaches and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7C9D-E938-4DAA-99C2-54A5B1AFE990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4054-E17F-41DD-9842-5F6CF928D47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21428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ise your head 15 to 30 deg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ct hypoxia - endotracheal intub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otension-Nacl, Ringer, blood transfu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lt Mannitol 20% every 2-6 ho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ration of stero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dation and anticonvuls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hylaxis of deep vein thrombosis and stomach ulc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ration of antibio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periods of ob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6779-1D02-4280-BB9D-0CD948B835DA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12C6-9382-4C53-9A91-D9C77B3456A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Glasgow Coma Scale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57120" y="1356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Total score is used for serial assessment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gno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YES OP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ain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verbal stimuli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ntaneously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EST VERBAL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respon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rehensible sound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ppropriate word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oriented and converses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ented and converses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EST MOTOR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respon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sion (decerebrate rigidity)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exion abnormal (decorticate rigidity)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exion withdrawa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izes pain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eys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otal 3–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5355-98CA-482A-B4B5-4DE0A09E9955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9A8F-3F05-44EE-84F2-DDC7A3A683A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5" descr=""/>
          <p:cNvPicPr/>
          <p:nvPr/>
        </p:nvPicPr>
        <p:blipFill>
          <a:blip r:embed="rId1"/>
          <a:stretch/>
        </p:blipFill>
        <p:spPr>
          <a:xfrm>
            <a:off x="665280" y="689040"/>
            <a:ext cx="8229600" cy="5248080"/>
          </a:xfrm>
          <a:prstGeom prst="rect">
            <a:avLst/>
          </a:prstGeom>
          <a:ln w="0">
            <a:noFill/>
          </a:ln>
        </p:spPr>
      </p:pic>
      <p:sp>
        <p:nvSpPr>
          <p:cNvPr id="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0D8E-BDD7-45D9-869E-7349AC8605DD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7CA4-7FB0-4468-8BFC-183C25522EE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Content Placeholder 5" descr=""/>
          <p:cNvPicPr/>
          <p:nvPr/>
        </p:nvPicPr>
        <p:blipFill>
          <a:blip r:embed="rId1"/>
          <a:stretch/>
        </p:blipFill>
        <p:spPr>
          <a:xfrm>
            <a:off x="-298440" y="311040"/>
            <a:ext cx="9448920" cy="5791320"/>
          </a:xfrm>
          <a:prstGeom prst="rect">
            <a:avLst/>
          </a:prstGeom>
          <a:ln w="0">
            <a:noFill/>
          </a:ln>
        </p:spPr>
      </p:pic>
      <p:sp>
        <p:nvSpPr>
          <p:cNvPr id="2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BF90-EB25-4187-89C3-E126C1616A27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660C-C6D6-40F0-86BD-8D3728E1A92F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QUELAE OF HEAD IN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800240" y="1981080"/>
            <a:ext cx="4343400" cy="4114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maj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post-traumatic dement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post-traumatic epilep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Korsakoff's syndr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character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4195-B27A-4EBB-8405-7862784D7DB1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9306-6DAA-44ED-A6B1-23A73E82073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2057400"/>
            <a:ext cx="4267080" cy="2494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min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-traumatic headac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urosis-posttraumat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jective post-traumatic syndr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sequences of craniocerebral inju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at Embolism With fractures of large bones, there may be, af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4 to 72 h, an acute onset of pulmonary symptoms (dyspnea and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erpnea) followed by coma with or without focal signs or seizure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equence is due to systemic fat embolism, first of the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ngs and then of the br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0553-B59E-4D8B-8D2B-E6F7F8E4A315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1BEE-F3F8-40F4-BAF9-DFA54E88019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sttraumatic Epilep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pilepsy is the most common delayed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quela of craniocerebral trauma, with an overall incidence of 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percent in patients with closed head injuries and 50 percent in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se who had sustained a compound skull fra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asis is nearly always a contusion or laceration of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rtex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3FD8-9A38-465C-A12F-EBB0A4D273F8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15AE-83EF-4DB9-B05D-1DA386A4867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57120" y="5357880"/>
            <a:ext cx="4191120" cy="1381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ly epileps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% within the first week-good progno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724280" y="5143680"/>
            <a:ext cx="4419720" cy="1572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-onset epileps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-6 months after the inju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r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k type: focal or general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reatment and Prophylaxis Usually the seizures can be controlled</a:t>
            </a:r>
            <a:r>
              <a:rPr b="1" i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a single anticonvulsant med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se of anticonvulsant drugs to prevent the first seizure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subsequent epilepsy has its proponents and oppon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FF9D-5BA6-4086-B2AD-C1405A84C888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C004-41E2-46BF-88C0-1506093DD8D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t-traumatic neur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eada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ti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otionally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ntion deficit, fatigue, intolera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xiety, de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asts months and 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ly in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4260-91E5-4442-B0C8-C4609A5920E4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6D05-45BC-49E6-8DA9-AA2448CF998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Calibri"/>
              </a:rPr>
              <a:t>Clasiffication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f trauma according to localization of the pro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5" descr=""/>
          <p:cNvPicPr/>
          <p:nvPr/>
        </p:nvPicPr>
        <p:blipFill>
          <a:blip r:embed="rId1"/>
          <a:stretch/>
        </p:blipFill>
        <p:spPr>
          <a:xfrm>
            <a:off x="669960" y="1420920"/>
            <a:ext cx="7808760" cy="4681440"/>
          </a:xfrm>
          <a:prstGeom prst="rect">
            <a:avLst/>
          </a:prstGeom>
          <a:ln w="0">
            <a:noFill/>
          </a:ln>
        </p:spPr>
      </p:pic>
      <p:sp>
        <p:nvSpPr>
          <p:cNvPr id="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7811-B658-4923-B683-ACE26506AD21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7FA8-DA77-4977-B47F-3CFC1D589E3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 the place of mechanical force - a sudden increase in pressure = coup lesion at the diametrically opposite end - negative pressure = contracoup le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ANd9GcReepkSznk4MSN6GRhP9EV8SIimKUyd2mmUNrb7BQukM5MhPEHZmg"/>
          <p:cNvPicPr/>
          <p:nvPr/>
        </p:nvPicPr>
        <p:blipFill>
          <a:blip r:embed="rId2"/>
          <a:stretch/>
        </p:blipFill>
        <p:spPr>
          <a:xfrm>
            <a:off x="1763640" y="2205000"/>
            <a:ext cx="4392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7" descr=""/>
          <p:cNvPicPr/>
          <p:nvPr/>
        </p:nvPicPr>
        <p:blipFill>
          <a:blip r:embed="rId1"/>
          <a:stretch/>
        </p:blipFill>
        <p:spPr>
          <a:xfrm>
            <a:off x="665280" y="890640"/>
            <a:ext cx="7819920" cy="5241960"/>
          </a:xfrm>
          <a:prstGeom prst="rect">
            <a:avLst/>
          </a:prstGeom>
          <a:ln w="0">
            <a:noFill/>
          </a:ln>
        </p:spPr>
      </p:pic>
      <p:sp>
        <p:nvSpPr>
          <p:cNvPr id="7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7598-58AA-4271-B80E-AE772B87560A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5A26-908E-4959-8F0D-FE311D906E9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ull fra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ear 80% temporal and parietal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pressive 20%, usually open, with bone pressing into brain t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inutive, crushed into numerous frag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1F3E-0ACF-465D-8E19-A1B0C2C8BE3D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E175-7695-4A47-BB07-B33192F0066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87480" y="46080"/>
            <a:ext cx="15238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kull base fracture fracture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44280"/>
            <a:ext cx="34545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Anterior skull bas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anosmia, rhinorrhea, glasses sign, "raccoon eyes"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ubconjunctival haemorrhag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Fracture of the petrous temporal bone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 bleeding from the ear, otorrhea, hearing loss and hematoma above the mastoid part (24-48h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Fracture of the Turkish saddl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damage to the pituitary gland-diabetes insipidus, impotence, amenorrhe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8E41-8688-478E-A4DF-590A1F91F983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62C6-B27C-40F6-9763-E5B7D483A94A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crane_medi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2276640"/>
            <a:ext cx="3888000" cy="410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ANd9GcTR-z9_Pt3jmv1y9SVa4__ZHE1mSBbpVucTJ3O2vqfQOVJDXhKOaQ"/>
          <p:cNvPicPr/>
          <p:nvPr/>
        </p:nvPicPr>
        <p:blipFill>
          <a:blip r:embed="rId3"/>
          <a:stretch/>
        </p:blipFill>
        <p:spPr>
          <a:xfrm>
            <a:off x="4429080" y="1785960"/>
            <a:ext cx="11430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ki</dc:creator>
  <dc:description/>
  <dc:language>en-US</dc:language>
  <cp:lastModifiedBy>Korisnik</cp:lastModifiedBy>
  <dcterms:modified xsi:type="dcterms:W3CDTF">2024-02-22T06:19:04Z</dcterms:modified>
  <cp:revision>140</cp:revision>
  <dc:subject/>
  <dc:title>PowerPoint Presentation</dc:title>
</cp:coreProperties>
</file>