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988B-2D8D-4412-8BED-CD13C0872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73B2-60D2-4C7A-97C5-8DC64BE3C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A0DD-ED49-4A64-ADA0-BAB8DEB42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2BDC-F42F-4940-841A-ACD1BA883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89E2-E989-4405-B6F6-5D0B2D5A6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F12D-AA56-409C-9F99-9101C8549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3624-B88B-48A6-A981-A36407F6C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BC45-C545-46E2-AA48-376673D53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56FF-0480-4973-B06D-1E5AC8CC3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FAFC-4318-4C6E-81C9-A89FDEAC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32F1-47E5-46AC-B710-1E845F9D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7060-1CD7-4660-A59F-88E66606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DA367-44B5-4F1B-8715-E923BDA85B73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DB806-210D-4928-ABD7-AA8702338CC0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google.com/imgres?imgurl=http://www.tk-online.de/rochelexikon/pics/a06465.004-1_big.jpg&amp;imgrefurl=http://www.tk-online.de/rochelexikon/pics/p06465.004-1.html&amp;usg=__G8ftMXOdjvTpKe8iNhPi409EpKM=&amp;h=287&amp;w=400&amp;sz=39&amp;hl=sr&amp;start=47&amp;itbs=1&amp;tbnid=L6b0kQb9DMjQAM:&amp;tbnh=89&amp;tbnw=124&amp;prev=/images%3Fq%3Dcontusio%26start%3D36%26hl%3Dsr%26sa%3DN%26gbv%3D2%26ndsp%3D18%26tbs%3Disch:1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stetoskop.info/pics/0/820/thumbnails/150x150/epiduralni.jpg&amp;imgrefurl=http://www.stetoskop.info/Epiduralni-hematom-820-c39-sickness.htm&amp;usg=__gj6tchsA4U-5Uts3m5zMk62SvIM=&amp;h=135&amp;w=150&amp;sz=8&amp;hl=sr&amp;start=3&amp;itbs=1&amp;tbnid=LS9V_eKJk7sI4M:&amp;tbnh=86&amp;tbnw=96&amp;prev=/images%3Fq%3Depidurani%2Bhematom%26hl%3Dsr%26sa%3DG%26gbv%3D2%26tbs%3Disch:1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nemlib.cz/web/obrazky/1_33_12_57_37_ostatni/epiduralni_hematom.jpg&amp;imgrefurl=http://www.nemlib.cz/web/index.php%3Fmenu%3D1_33_12_57_37&amp;usg=__s3nn_4bTws5qMT_0dt961SIuT54=&amp;h=200&amp;w=200&amp;sz=52&amp;hl=sr&amp;start=9&amp;itbs=1&amp;tbnid=2rzgkyYap1m6bM:&amp;tbnh=104&amp;tbnw=104&amp;prev=/images%3Fq%3Depidurani%2Bhematom%26hl%3Dsr%26sa%3DG%26gbv%3D2%26tbs%3Disch:1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neurohirurgija.in.rs/new_page_3_files/image008.jpg&amp;imgrefurl=http://www.neurohirurgija.in.rs/new_page_3.htm&amp;usg=__fcgQ8jxYzDE-e0r0KLoX_3gKfIk=&amp;h=320&amp;w=320&amp;sz=12&amp;hl=sr&amp;start=1&amp;itbs=1&amp;tbnid=dcR7On7llAnlEM:&amp;tbnh=118&amp;tbnw=118&amp;prev=/images%3Fq%3Dsubdurani%2Bhematom%26hl%3Dsr%26sa%3DG%26gbv%3D2%26tbs%3Disch:1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imaios.com/var/ezwebin_site/storage/images/clinical-cases/exambank/emergency/thoracic-injuries-subcapsular-hemorrhage-of-liver-pelvic-injury/crane/2426860-1-eng-GB/crane_medium.jpg&amp;imgrefurl=http://www.imaios.com/en/Clinical-cases/Exambank/Emergency/Thoracic-Injuries-Subcapsular-hemorrhage-of-liver-Pelvic-injury&amp;usg=__zWoNOxLW8UVbFwH_WF3UpKzrSUA=&amp;h=166&amp;w=200&amp;sz=9&amp;hl=sr&amp;start=55&amp;itbs=1&amp;tbnid=D1BnPh82baMb-M:&amp;tbnh=86&amp;tbnw=104&amp;prev=/images%3Fq%3Dfractura%2Bcranii%26start%3D54%26hl%3Dsr%26sa%3DN%26gbv%3D2%26ndsp%3D18%26tbs%3Disch:1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raniocerebralne povrede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RANIOCEREBRAL TRAUMA</a:t>
            </a:r>
            <a:br>
              <a:rPr sz="4000"/>
            </a:b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Svetlana Miletic Drakulic, PhD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571720"/>
            <a:ext cx="6400800" cy="66600"/>
          </a:xfrm>
          <a:prstGeom prst="rect">
            <a:avLst/>
          </a:prstGeom>
          <a:noFill/>
          <a:ln w="0">
            <a:noFill/>
          </a:ln>
        </p:spPr>
        <p:txBody>
          <a:bodyPr tIns="20880" bIns="20880"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Calibri"/>
              </a:rPr>
              <a:t>ac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37B08-0BA1-4E45-A978-4A5189C88862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1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55B85-A07C-4943-9F70-9389A77FA171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mmotio cerebri</a:t>
            </a:r>
            <a:br>
              <a:rPr sz="4000"/>
            </a:b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Cerebral Concus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42560" y="1981080"/>
            <a:ext cx="871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nctional disorder of the brain 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cussion,meaning 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eversible traumatic paralysis of nervous function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 always immediate (not delayed even by seconds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ffects of concussion on brain function may last for a variable time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seconds, minutes, hours, or long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ression of reflexes (falling to the ground if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nding), transient arrest of respiration, a brief period of bradycardia,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fall in blood pressure     (vital and vegetative centers)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mnesia (memoriz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alysis of limbs, swallowing, brainstem reflexes (pyramidal pathway, KN nucle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79CD7-B393-4D34-9ADF-15797DCEFD50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6C01F-1B53-4750-B074-3C2A0A63CAEA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chanism of inj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2860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ll on the se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dden jerk of the head (jerk bica) - the medullary part of the impact in dens epistrop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blow to the head (the direction of the force passes through the brainst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dden change in the momentum of the head; either movement is imparted to the stationary head by a blow or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vement of the head is arrested by a hard, unyielding surfa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se two types of blunt (nonpenetrating) head injury are call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ccelerative and decelerative, respectivel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65351-F219-4226-B9FE-1616FA737D7A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4EB0F-D9C4-4C0D-8D08-3FBC9B11BEB0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8" descr="ANd9GcRKoRW0YPY_aZDau6UTN4NPC0Y5W781x5ZmjBS42Yha5YoargXhug"/>
          <p:cNvPicPr/>
          <p:nvPr/>
        </p:nvPicPr>
        <p:blipFill>
          <a:blip r:embed="rId1"/>
          <a:stretch/>
        </p:blipFill>
        <p:spPr>
          <a:xfrm>
            <a:off x="5616720" y="0"/>
            <a:ext cx="35272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ces cause axons to stretch or tea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sturbance of consciousness for less than 6 hours = comotio cerebr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f the disorder lasts longer than 6 hours, we are talking about diffuse axonal damage (DAO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generation of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erve fibers that had been stretched or torn by the shear stresses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t up during rotational acceleration of the head (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diffuse axonal</a:t>
            </a:r>
            <a:r>
              <a:rPr b="0" i="1" lang="sr-Latn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injury)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Calibri"/>
              </a:rPr>
              <a:t>examina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E1BF4-AE65-4045-9207-B1F6F5C307E9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BE79C-49BB-4C93-A0CA-9EC35237E394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838080" y="1752480"/>
            <a:ext cx="464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6"/>
          <p:cNvSpPr/>
          <p:nvPr/>
        </p:nvSpPr>
        <p:spPr>
          <a:xfrm>
            <a:off x="609480" y="27432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AutoShape 9"/>
          <p:cNvCxnSpPr>
            <a:stCxn id="98" idx="0"/>
            <a:endCxn id="98" idx="0"/>
          </p:cNvCxnSpPr>
          <p:nvPr/>
        </p:nvCxnSpPr>
        <p:spPr>
          <a:xfrm>
            <a:off x="609120" y="27428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0" name="AutoShape 10"/>
          <p:cNvSpPr/>
          <p:nvPr/>
        </p:nvSpPr>
        <p:spPr>
          <a:xfrm>
            <a:off x="3429000" y="2819520"/>
            <a:ext cx="4856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11"/>
          <p:cNvSpPr/>
          <p:nvPr/>
        </p:nvSpPr>
        <p:spPr>
          <a:xfrm>
            <a:off x="4876920" y="2743200"/>
            <a:ext cx="48564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3352680" y="2278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429000" y="1828800"/>
            <a:ext cx="2367000" cy="8254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ss of consciousnes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4"/>
          <p:cNvSpPr/>
          <p:nvPr/>
        </p:nvSpPr>
        <p:spPr>
          <a:xfrm>
            <a:off x="0" y="3089160"/>
            <a:ext cx="3276720" cy="459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rograde amnesi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5562720" y="3200400"/>
            <a:ext cx="3581280" cy="459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terograde amnesi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609480" y="5021280"/>
            <a:ext cx="8001000" cy="8254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usea, vomiting, fluctuating blood pressure, tremors, headache, feeling cold, hot, weakness, apath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2895480" y="6248520"/>
            <a:ext cx="46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ke data from other pers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Injury severity according to anterograde amnesia and coma leng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57C22-7154-42A3-8691-158BE73B1CF0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816DD-6464-4244-B964-C384D922C938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714240" y="2857680"/>
            <a:ext cx="3733920" cy="3781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nor Injury 75%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anterograde amnesia up to 24 hou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Impairment of consciousness for up to 20 minut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GSK 13-1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Absence of CT finding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4714920" y="2928960"/>
            <a:ext cx="4114800" cy="3416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rious injur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anterograde amnesia over 24 hou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Coma for more than 6 hou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GSC less than 1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CT (organic brain damage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ffuse axonal dam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a for over 6 ho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T and 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MR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esults were norm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ive axon damage by tearing and stretching (pons, midbrain, c. calosuma, c. intern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onsequences are either a vegetative state or a disorder of attention and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8A975-BC03-4698-A872-61F9B0E7F8A1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1669A-7295-401C-AAD7-FADFDD3FBE35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rain ede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on after any inju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does not correlate with the severity of the inju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usually develops after 24 to 48 ho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ildren are especially pr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85B29-EE4C-4D9D-A30F-4649712F8D44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805CF-6F73-4BD6-9824-91BD875582AC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ntusio cerebr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contusions </a:t>
            </a:r>
            <a:r>
              <a:rPr b="0" i="1" lang="sr-Latn-RS" sz="40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chanism of inju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. Impact of an object on the skull that is at re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contusion at the point of impact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. by the impact of the moving skull on a solid surfa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in the place of injury and positive pressure, a smaller contusion focus, on the opposite side, negative pressure, a larger focu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contre-coup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jority of patients who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main in coma for more than 24 h after a head injury are found to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ave intracerebral hematom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 these lesions, the most important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re contusions of the surface of the brain beneath the point of impact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oup lesion) and the more extensive lacerations and contusions</a:t>
            </a:r>
            <a:r>
              <a:rPr b="0" i="1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the side opposite the site of impact 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ontrecoup lesion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B7754-996A-44DD-A586-E60CAA120939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7A679-B87A-4C18-BD3B-317926FC6794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8" descr="ANd9GcQ1pOVaZc9SLDWLCD5RBWNj9HqiE0NotZ1mP0_-9zllcu7ooyyw"/>
          <p:cNvPicPr/>
          <p:nvPr/>
        </p:nvPicPr>
        <p:blipFill>
          <a:blip r:embed="rId1"/>
          <a:stretch/>
        </p:blipFill>
        <p:spPr>
          <a:xfrm>
            <a:off x="6143760" y="1071720"/>
            <a:ext cx="2666880" cy="140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685800" y="1428840"/>
            <a:ext cx="777240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effects of bruises, lacerations, hemorrhages, localized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wellings, white matter necroses, and herniations of tissue 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at occur 12 to 72 h or more aft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On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T scan of the brain - finding of a contusion scar the contusions appear as edematous regions of cortex and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ubcortical white matter admixed with areas of increased density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presenting leaked blood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eurological examination-focal outburs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mpaired consciousness, bradycardia with hyper and then hypotens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4592D-6787-4B19-AE44-AF41D4A26ACB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8B021-0E6B-4DF7-90ED-7084A11066A3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brain_injury"/>
          <p:cNvPicPr/>
          <p:nvPr/>
        </p:nvPicPr>
        <p:blipFill>
          <a:blip r:embed="rId2"/>
          <a:stretch/>
        </p:blipFill>
        <p:spPr>
          <a:xfrm>
            <a:off x="1692360" y="1413000"/>
            <a:ext cx="56163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ANIOCEREBRAL TRAU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tiologically, they belong to non-progressive neurological disorders caused by a single effect of an etiological factor (mechanical traum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AB9CD-9540-4FD3-9497-E9BDF56C3AB0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739D3-E30F-4C9E-800B-BAA3F7A391C2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87480" y="46080"/>
            <a:ext cx="121896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0"/>
          <p:cNvSpPr/>
          <p:nvPr/>
        </p:nvSpPr>
        <p:spPr>
          <a:xfrm>
            <a:off x="87480" y="46080"/>
            <a:ext cx="121896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2"/>
          <p:cNvSpPr/>
          <p:nvPr/>
        </p:nvSpPr>
        <p:spPr>
          <a:xfrm>
            <a:off x="87480" y="46080"/>
            <a:ext cx="121896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4"/>
          <p:cNvSpPr/>
          <p:nvPr/>
        </p:nvSpPr>
        <p:spPr>
          <a:xfrm>
            <a:off x="87480" y="46080"/>
            <a:ext cx="121896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a0646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124000" y="1628640"/>
            <a:ext cx="45370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l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50920" y="1981080"/>
            <a:ext cx="388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arachnoid hemorrh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picdural and subdural hematom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acerebral blee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7" descr="1"/>
          <p:cNvPicPr/>
          <p:nvPr/>
        </p:nvPicPr>
        <p:blipFill>
          <a:blip r:embed="rId1"/>
          <a:stretch/>
        </p:blipFill>
        <p:spPr>
          <a:xfrm>
            <a:off x="4284720" y="2421000"/>
            <a:ext cx="39607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umatic intracranial blee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cute Epidural Hemorrh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cute</a:t>
            </a:r>
            <a:r>
              <a:rPr b="1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bdural</a:t>
            </a:r>
            <a:r>
              <a:rPr b="1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ematom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ronic Subdural</a:t>
            </a:r>
            <a:r>
              <a:rPr b="1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ematom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04DA2-1951-46DD-8B3E-6BBAEA8553FF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46C45-E0EC-4CBF-A90A-2206CF308EEE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cute Epidural Hemorrh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5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arises with a temporal or parietal fracture and laceration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the middle meningeal arte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acture of the temporal and parietal b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matoma grows rapidly, compresses brain tissue (Hutchinson's pupi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urological signs1h – 24h lucid peri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increase in intracranial pres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Focal neurological outbrea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45BED-FD38-4BD6-A0B7-949CF1ADA393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6C917-C8B4-488D-9DA6-3F2412C7A9A0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pidural hemato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4500360"/>
            <a:ext cx="7772400" cy="15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AF096-C3BB-4554-AA77-29124E919F06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0249F-F9BF-4C89-8766-EE9AF519AC4C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Diagram 5" descr=""/>
          <p:cNvPicPr/>
          <p:nvPr/>
        </p:nvPicPr>
        <p:blipFill>
          <a:blip r:embed="rId1"/>
          <a:stretch/>
        </p:blipFill>
        <p:spPr>
          <a:xfrm>
            <a:off x="353880" y="208080"/>
            <a:ext cx="6107400" cy="4078080"/>
          </a:xfrm>
          <a:prstGeom prst="rect">
            <a:avLst/>
          </a:prstGeom>
          <a:ln w="0">
            <a:noFill/>
          </a:ln>
        </p:spPr>
      </p:pic>
      <p:sp>
        <p:nvSpPr>
          <p:cNvPr id="152" name="TextBox 6"/>
          <p:cNvSpPr/>
          <p:nvPr/>
        </p:nvSpPr>
        <p:spPr>
          <a:xfrm>
            <a:off x="3214800" y="2786040"/>
            <a:ext cx="578628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typical example is that of</a:t>
            </a:r>
            <a:r>
              <a:rPr b="1" lang="sr-Latn-R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child who has fallen from a bicycle and was unconscious only momentarily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few hours or a day later headache of increasing</a:t>
            </a:r>
            <a:r>
              <a:rPr b="1" lang="sr-Latn-R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verity develops, with vomiting, drowsiness, confusion, aphasia,</a:t>
            </a:r>
            <a:r>
              <a:rPr b="1" lang="sr-Latn-R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izures</a:t>
            </a:r>
            <a:r>
              <a:rPr b="1" lang="sr-Latn-R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hemiparesis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pulse is often slow (below 60 beats per</a:t>
            </a:r>
            <a:r>
              <a:rPr b="1" lang="sr-Latn-R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inute) and bounding, with a concomitant rise in systolic bloo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essure (Cushing effect). The pupil ma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late on the side of th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ematoma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CT</a:t>
            </a: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can reveals a lens-shaped clot with a smooth inner margin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visualization of a fracture line across</a:t>
            </a: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groove of the middle meningeal artery and knowledge of which</a:t>
            </a: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ide of the head was struck (the clot is usually on that side) are of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id in diagnosis and lateralization of the les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5" descr="epiduraln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57800" y="-285840"/>
            <a:ext cx="45370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Calibri"/>
              </a:rPr>
              <a:t>thera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6840" y="1934640"/>
            <a:ext cx="32576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f the clot is no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moved surgically, comes at the end of a comatose period and 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ue to respiratory arre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surgical procedure craniotomy, drainage of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hematoma, and identification and ligation of the bleeding vesse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5" descr="epiduralni_hemato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71960" y="1785960"/>
            <a:ext cx="489600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cute and Chronic Subdural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Hematom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Venous slow bleeding between dura and arachno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chronic subdural hematoma becomes gradually encyst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y fibrous membranes (pseudomembranes) that grow from th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ur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In </a:t>
            </a: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acute</a:t>
            </a:r>
            <a:r>
              <a:rPr b="1" i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subdural hematoma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, there may</a:t>
            </a:r>
            <a:r>
              <a:rPr b="0" i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e a brief lucid interval between the blow to the head and the adv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f coma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, more often, the patient is comatose from the time 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injury and the coma deepens progressively. Frequently the acute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dural hematoma is combined with epidural hemorrhage, cerebral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tusion, or lacera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5184E-A237-400A-BDC1-0D4C49A798ED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8F144-786F-46EC-9585-DEC5901CE71B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Content Placeholder 5" descr=""/>
          <p:cNvPicPr/>
          <p:nvPr/>
        </p:nvPicPr>
        <p:blipFill>
          <a:blip r:embed="rId1"/>
          <a:stretch/>
        </p:blipFill>
        <p:spPr>
          <a:xfrm>
            <a:off x="615960" y="993600"/>
            <a:ext cx="7862760" cy="5108760"/>
          </a:xfrm>
          <a:prstGeom prst="rect">
            <a:avLst/>
          </a:prstGeom>
          <a:ln w="0">
            <a:noFill/>
          </a:ln>
        </p:spPr>
      </p:pic>
      <p:sp>
        <p:nvSpPr>
          <p:cNvPr id="16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4CF4E-7DED-4B0E-BB3E-56E57EAF4445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D35BA-43F1-4D6C-9AD7-1AC74BFDDA27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dural hematom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934640"/>
            <a:ext cx="34718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e chronic subdural hematoma becomes gradually encyste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y fibrous membranes (pseudomembranes) that grow from th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ura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Why somewhat less than one-half of all subdural hematomas</a:t>
            </a:r>
            <a:r>
              <a:rPr b="0" lang="sr-Latn-R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remain solid and nonenlarging and the remainder liquefy and then</a:t>
            </a:r>
            <a:r>
              <a:rPr b="0" lang="sr-Latn-R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large is not know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5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ggest that the volume of the original clot is a critica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actor: the larger its initial size, the more likely it will be to enlarge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n inflammatory reaction, triggered by the breakdown products of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lood elements in the clot, appears to be an additional stimulus f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rowth as well as for neomembrane formation and its vasculariz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5429160" y="1428840"/>
            <a:ext cx="3357720" cy="37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ANIOCEREBRAL TRAUM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classified 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8A9A2-2C1D-4F4F-9D79-4997F50640A1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D5D94-0EA0-4129-BB33-C30A765ABAF5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Diagram 5" descr=""/>
          <p:cNvPicPr/>
          <p:nvPr/>
        </p:nvPicPr>
        <p:blipFill>
          <a:blip r:embed="rId1"/>
          <a:stretch/>
        </p:blipFill>
        <p:spPr>
          <a:xfrm>
            <a:off x="1504800" y="1816200"/>
            <a:ext cx="613908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Calibri"/>
              </a:rPr>
              <a:t>thera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934640"/>
            <a:ext cx="34718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 most cases of acute hematoma,it is sufficient to place burr holes and evacuate the clotbefore deep coma has develope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eatment of larger hematomas,particularly after several hours have passed and the blood has clotted,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sists of wide craniotomy to permit control of the blee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d removal of the clo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5" descr="image00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90920" y="1500120"/>
            <a:ext cx="475308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cute Brain Swelling in Childr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6840" y="1934640"/>
            <a:ext cx="29718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is condition is seen in the first hours after injury and may prove</a:t>
            </a:r>
            <a:r>
              <a:rPr b="0" lang="sr-Latn-R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rapidly fatal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e CT scan shows enlargement of both hemisphere</a:t>
            </a:r>
            <a:r>
              <a:rPr b="0" lang="sr-Latn-R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compression of the basal cisterns and ventricles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ere is usually</a:t>
            </a:r>
            <a:r>
              <a:rPr b="0" lang="sr-Latn-R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papilledema in the early stages, during which the child</a:t>
            </a:r>
            <a:r>
              <a:rPr b="0" lang="sr-Latn-R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yperventilates, vomits, and shows extensor posturing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e assumption</a:t>
            </a:r>
            <a:r>
              <a:rPr b="0" lang="sr-Latn-R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as been that this represents a loss of regulation of cerebral</a:t>
            </a:r>
            <a:r>
              <a:rPr b="0" lang="sr-Latn-R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lood flow and a massive increase in the blood volume ofthe brain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5" descr="chronicky_subduralni_hematom"/>
          <p:cNvPicPr/>
          <p:nvPr/>
        </p:nvPicPr>
        <p:blipFill>
          <a:blip r:embed="rId1"/>
          <a:stretch/>
        </p:blipFill>
        <p:spPr>
          <a:xfrm>
            <a:off x="3429000" y="1643040"/>
            <a:ext cx="53276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umatic brain involvement of herni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apment of parts of the brain in the openings of the dura or b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ubfal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Through hiatus tento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Through the foramen occipitale magn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28FF8-EE5B-4C8E-8F89-694471FF6353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523B2-BF39-4BA7-BA19-8841464FA540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Content Placeholder 5" descr=""/>
          <p:cNvPicPr/>
          <p:nvPr/>
        </p:nvPicPr>
        <p:blipFill>
          <a:blip r:embed="rId1"/>
          <a:stretch/>
        </p:blipFill>
        <p:spPr>
          <a:xfrm>
            <a:off x="646200" y="615960"/>
            <a:ext cx="7851600" cy="2316240"/>
          </a:xfrm>
          <a:prstGeom prst="rect">
            <a:avLst/>
          </a:prstGeom>
          <a:ln w="0">
            <a:noFill/>
          </a:ln>
        </p:spPr>
      </p:pic>
      <p:sp>
        <p:nvSpPr>
          <p:cNvPr id="18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C6D58-85B7-4B84-AA2D-9BEE44B7D358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35F13-B0D3-4D0B-A843-B934B4AAD828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Diagram 6" descr=""/>
          <p:cNvPicPr/>
          <p:nvPr/>
        </p:nvPicPr>
        <p:blipFill>
          <a:blip r:embed="rId2"/>
          <a:stretch/>
        </p:blipFill>
        <p:spPr>
          <a:xfrm>
            <a:off x="281160" y="2206800"/>
            <a:ext cx="8442000" cy="3260520"/>
          </a:xfrm>
          <a:prstGeom prst="rect">
            <a:avLst/>
          </a:prstGeom>
          <a:ln w="0">
            <a:noFill/>
          </a:ln>
        </p:spPr>
      </p:pic>
      <p:pic>
        <p:nvPicPr>
          <p:cNvPr id="184" name="Diagram 7" descr=""/>
          <p:cNvPicPr/>
          <p:nvPr/>
        </p:nvPicPr>
        <p:blipFill>
          <a:blip r:embed="rId3"/>
          <a:stretch/>
        </p:blipFill>
        <p:spPr>
          <a:xfrm>
            <a:off x="493560" y="4780080"/>
            <a:ext cx="8156880" cy="17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250px-Brain_herniation_types-2"/>
          <p:cNvPicPr/>
          <p:nvPr/>
        </p:nvPicPr>
        <p:blipFill>
          <a:blip r:embed="rId2"/>
          <a:stretch/>
        </p:blipFill>
        <p:spPr>
          <a:xfrm>
            <a:off x="1619280" y="1268280"/>
            <a:ext cx="54007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120px-Subfalcine-herniation-001"/>
          <p:cNvPicPr/>
          <p:nvPr/>
        </p:nvPicPr>
        <p:blipFill>
          <a:blip r:embed="rId2"/>
          <a:stretch/>
        </p:blipFill>
        <p:spPr>
          <a:xfrm>
            <a:off x="1692360" y="981000"/>
            <a:ext cx="54720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Brain hernia"/>
          <p:cNvPicPr/>
          <p:nvPr/>
        </p:nvPicPr>
        <p:blipFill>
          <a:blip r:embed="rId2"/>
          <a:stretch/>
        </p:blipFill>
        <p:spPr>
          <a:xfrm>
            <a:off x="1547640" y="1341360"/>
            <a:ext cx="6264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rap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1285560"/>
            <a:ext cx="77724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the same time resuscitation, data collection, examination of the pati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ist 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duration of loss of conscious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duration of post-traumatic anterograde amnes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cause of inju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present headaches and vom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ABBA1-A0C0-4929-AF37-A98EC02C2B2C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F0AF6-BA49-43A5-8D8D-070B817FDF9D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rap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1214280"/>
            <a:ext cx="77724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ise your head 15 to 30 degr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rrect hypoxia - endotracheal intub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ypotension-Nacl, Ringer, blood transfu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lt Mannitol 20% every 2-6 ho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ministration of steroi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dation and anticonvulsa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phylaxis of deep vein thrombosis and stomach ulc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ministration of antibiot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ng periods of observ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51E83-936A-4C9A-8726-37EF46EE61D3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740AB-CFD2-4952-8D06-9506DD311776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8584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Calibri"/>
              </a:rPr>
              <a:t>Glasgow Coma Scale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57120" y="13568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Total score is used for serial assessment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rognosi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YES OP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ver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pain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verbal stimuli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ontaneously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EST VERBAL RESPON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respons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omprehensible sounds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appropriate words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oriented and converses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iented and converses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EST MOTOR RESPON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respons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ension (decerebrate rigidity)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exion abnormal (decorticate rigidity)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exion withdrawal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lizes pain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eys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otal 3–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7C16B-2121-47C5-A242-F21E44CB87FC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16038-EED3-45DB-8149-C9C4E59C0595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Content Placeholder 5" descr=""/>
          <p:cNvPicPr/>
          <p:nvPr/>
        </p:nvPicPr>
        <p:blipFill>
          <a:blip r:embed="rId1"/>
          <a:stretch/>
        </p:blipFill>
        <p:spPr>
          <a:xfrm>
            <a:off x="665280" y="689040"/>
            <a:ext cx="8229600" cy="5248080"/>
          </a:xfrm>
          <a:prstGeom prst="rect">
            <a:avLst/>
          </a:prstGeom>
          <a:ln w="0">
            <a:noFill/>
          </a:ln>
        </p:spPr>
      </p:pic>
      <p:sp>
        <p:nvSpPr>
          <p:cNvPr id="5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AD5F9-510C-424D-AD51-99C7457E4D2D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A6061-46F5-46F2-AF01-3614B7F3CC01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Content Placeholder 5" descr=""/>
          <p:cNvPicPr/>
          <p:nvPr/>
        </p:nvPicPr>
        <p:blipFill>
          <a:blip r:embed="rId1"/>
          <a:stretch/>
        </p:blipFill>
        <p:spPr>
          <a:xfrm>
            <a:off x="-298440" y="311040"/>
            <a:ext cx="9448920" cy="5791320"/>
          </a:xfrm>
          <a:prstGeom prst="rect">
            <a:avLst/>
          </a:prstGeom>
          <a:ln w="0">
            <a:noFill/>
          </a:ln>
        </p:spPr>
      </p:pic>
      <p:sp>
        <p:nvSpPr>
          <p:cNvPr id="20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E59A2-7961-4F16-910B-03739E12840A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B34DD-DE69-4C85-B605-484148634E3D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EQUELAE OF HEAD INJ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800240" y="1981080"/>
            <a:ext cx="4343400" cy="4114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maj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post-traumatic dement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post-traumatic epileps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Korsakoff's syndr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. character cha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50436-8F45-43D7-B735-5AB248698DF0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A2035-91FF-495D-B3B6-75789EB1FFCD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228600" y="2057400"/>
            <a:ext cx="4267080" cy="2494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</a:rPr>
              <a:t>min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st-traumatic headach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urosis-posttraumati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jective post-traumatic syndro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nsequences of craniocerebral injur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Fat Embolism With fractures of large bones, there may be, af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4 to 72 h, an acute onset of pulmonary symptoms (dyspnea and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yperpnea) followed by coma with or without focal signs or seizures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equence is due to systemic fat embolism, first of the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ungs and then of the bra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49638-BDA2-49FF-AFDF-860419FDC828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9B0AF-3806-4A60-ADC8-D480549F73C3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osttraumatic Epileps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pilepsy is the most common delayed</a:t>
            </a:r>
            <a:r>
              <a:rPr b="1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quela of craniocerebral trauma, with an overall incidence of ab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 percent in patients with closed head injuries and 50 percent in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ose who had sustained a compound skull fra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asis is nearly always a contusion or laceration of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ortex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7BCBC-6F6B-4BE6-843D-E82A09E05D38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B915A-E714-405A-BBF2-A39624CEF8B8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357120" y="5357880"/>
            <a:ext cx="4191120" cy="1381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arly epileps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% within the first week-good prognos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4724280" y="5143680"/>
            <a:ext cx="4419720" cy="15721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te-onset epileps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-6 months after the injur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ildre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tack type: focal or generaliz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Treatment and Prophylaxis Usually the seizures can be controlled</a:t>
            </a:r>
            <a:r>
              <a:rPr b="1" i="1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a single anticonvulsant med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se of anticonvulsant drugs to prevent the first seizure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subsequent epilepsy has its proponents and oppon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795B7-E96F-4D8B-B2DC-75C8DC692738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F4396-0A10-49C5-9B78-E263A1FD8BCB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st-traumatic neur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headac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ti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otionally uns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tention deficit, fatigue, intoleran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xiety, depre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lasts months and yea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rely in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66115-BFAE-4F87-808B-D75215720FF9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EFA7C-F868-4E6F-87A3-460E52C8E0CF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Calibri"/>
              </a:rPr>
              <a:t>Clasiffication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of trauma according to localization of the proces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Content Placeholder 5" descr=""/>
          <p:cNvPicPr/>
          <p:nvPr/>
        </p:nvPicPr>
        <p:blipFill>
          <a:blip r:embed="rId1"/>
          <a:stretch/>
        </p:blipFill>
        <p:spPr>
          <a:xfrm>
            <a:off x="669960" y="1420920"/>
            <a:ext cx="7808760" cy="4681440"/>
          </a:xfrm>
          <a:prstGeom prst="rect">
            <a:avLst/>
          </a:prstGeom>
          <a:ln w="0">
            <a:noFill/>
          </a:ln>
        </p:spPr>
      </p:pic>
      <p:sp>
        <p:nvSpPr>
          <p:cNvPr id="6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0951F-A30F-4389-BD11-B6599FA80D30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02CFE-7245-4806-BC1F-80BAA582378F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 the place of mechanical force - a sudden increase in pressure = coup lesion at the diametrically opposite end - negative pressure = contracoup le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ANd9GcReepkSznk4MSN6GRhP9EV8SIimKUyd2mmUNrb7BQukM5MhPEHZmg"/>
          <p:cNvPicPr/>
          <p:nvPr/>
        </p:nvPicPr>
        <p:blipFill>
          <a:blip r:embed="rId2"/>
          <a:stretch/>
        </p:blipFill>
        <p:spPr>
          <a:xfrm>
            <a:off x="1763640" y="2205000"/>
            <a:ext cx="43927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Content Placeholder 7" descr=""/>
          <p:cNvPicPr/>
          <p:nvPr/>
        </p:nvPicPr>
        <p:blipFill>
          <a:blip r:embed="rId1"/>
          <a:stretch/>
        </p:blipFill>
        <p:spPr>
          <a:xfrm>
            <a:off x="665280" y="890640"/>
            <a:ext cx="7819920" cy="5241960"/>
          </a:xfrm>
          <a:prstGeom prst="rect">
            <a:avLst/>
          </a:prstGeom>
          <a:ln w="0">
            <a:noFill/>
          </a:ln>
        </p:spPr>
      </p:pic>
      <p:sp>
        <p:nvSpPr>
          <p:cNvPr id="7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09535-81AE-47FC-A7DF-5B650D0CAA68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10BFF-C910-4FEB-91A8-8B30FB9EAE1B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kull fra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inear 80% temporal and parietal b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mpressive 20%, usually open, with bone pressing into brain tiss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mminutive, crushed into numerous frag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5EFEF-07C7-479B-961A-B0B4659AE174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012F3-2CAC-47B2-BEA9-7DFE719B0929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10"/>
          <p:cNvSpPr/>
          <p:nvPr/>
        </p:nvSpPr>
        <p:spPr>
          <a:xfrm>
            <a:off x="87480" y="46080"/>
            <a:ext cx="152388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kull base fracture fracture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5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844280"/>
            <a:ext cx="345456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Anterior skull base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-anosmia, rhinorrhea, glasses sign, "raccoon eyes"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ubconjunctival haemorrhag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Fracture of the petrous temporal bone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- bleeding from the ear, otorrhea, hearing loss and hematoma above the mastoid part (24-48h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Fracture of the Turkish saddle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-damage to the pituitary gland-diabetes insipidus, impotence, amenorrhe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2F632-43F6-4E5A-8466-349AEEA2242D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FEC2C-99AF-47A0-BF8F-7FBF82B68D9F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8" descr="crane_mediu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3640" y="2276640"/>
            <a:ext cx="3888000" cy="410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ANd9GcTR-z9_Pt3jmv1y9SVa4__ZHE1mSBbpVucTJ3O2vqfQOVJDXhKOaQ"/>
          <p:cNvPicPr/>
          <p:nvPr/>
        </p:nvPicPr>
        <p:blipFill>
          <a:blip r:embed="rId3"/>
          <a:stretch/>
        </p:blipFill>
        <p:spPr>
          <a:xfrm>
            <a:off x="4429080" y="1785960"/>
            <a:ext cx="114300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iki</dc:creator>
  <dc:description/>
  <dc:language>en-US</dc:language>
  <cp:lastModifiedBy>Korisnik</cp:lastModifiedBy>
  <dcterms:modified xsi:type="dcterms:W3CDTF">2024-02-22T06:19:04Z</dcterms:modified>
  <cp:revision>140</cp:revision>
  <dc:subject/>
  <dc:title>PowerPoint Presentation</dc:title>
</cp:coreProperties>
</file>